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60A22-E6FC-46BD-960F-CF64C7600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DDE5078E-230B-462A-9180-FAFFC3A94F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352253E-B2EB-4793-85CC-E71309685C0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2956652-081B-44C2-AAC3-93C7793B00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D712353-B1AB-420B-B60C-EC3FC7D3E0C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A4D1E41-F6DF-4796-982D-89D8FCB059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0DD3568-C935-4610-93DE-D060F47FBE4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C8E2583-BA12-4BF6-9A1B-07E856EC57C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7EBF9B-E965-41F6-826C-2966B5B9DF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DAD217D-9B54-47B1-9693-3043400EE22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C487D2-F156-43E9-92DB-15AADA60536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F3D9747-7E77-4A0A-B6E3-BCCF1F55FDE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3BFD9129-BC00-40C6-BAAF-7BD901779D3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296409F-22D2-4FC8-BDF0-61D5ED3F614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0E11D46-0FA3-42FB-98EE-CF3EAA47828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A6B4836-7542-4D91-8520-1441F83073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92DE094-EF16-445D-9B76-EE3DF51E8F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4FC237D-C5F9-4858-B89A-223D068A4A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08C372-D837-4B6B-99E5-2820C4947B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6E6AFBB-23D0-4D26-B9B5-CAD5828E17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4D0BC7-FCF7-4956-8558-113CA9FE21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482F74-562A-4CA1-9E13-88F9386102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74305BE-634C-4FE3-90F7-314E3230830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3527EC37-2C67-4D8D-A86E-567FA38423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6B9796D-9BA9-4547-8D6F-D511BAD05BD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D016E34-E2B4-424E-8B26-FCF982C14C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F941459-42E3-48D2-AD93-7B01E366E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E12FACF-9E87-4461-87A7-D471851BA9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D10B8FF-CB7A-436A-A14A-697461E33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D654AE6-22B6-4EE5-8237-2FDF99CFBA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7CEB75E-45B1-48EF-84C0-C6DA8B3D5B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4B55B54-22B8-46BE-B001-8D444DC7E0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BDADC37-676A-4F31-9942-B2B3608B1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353DFEE-37F4-4679-9D07-003B765E30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86118B-88B3-4237-9694-2E09C238F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250DB08-C82D-4802-8F69-7D182E7690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015FE1B-3621-4B1B-B0A7-409C167487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41096C3-E05F-4409-8853-787C00F0D8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1E4DE2D-C543-47B6-BBEF-8BE9ED2E2B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4AB5D4B-E3D9-49DF-BCCD-90F5A3817B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C970ADD-50EC-4654-9C52-4FBACA19C8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D30A49E-A850-46E7-A512-64AB481368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C8CEA03-AED5-48F3-851B-60573C38FA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053E187-0884-46C8-B125-AB3864E1F7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5CBB552-65F8-40E0-BB13-DC40C8B1B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AF482B-F4A1-4C52-ABDE-06D5B5B00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334B49C-609F-44E1-9E36-45FDF79CEC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F3A141C-706F-4DBF-83B7-0DF9C133E0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F7D68DA-FB8D-472D-B057-E0F4F288A0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BD77661-90DF-4FB4-A29C-B4123D5A43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DB27BC8-2456-499C-AEB8-916CE4EE6D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460632-1097-4C4C-B8AD-699AEB679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633061-492E-469B-B7FB-70E6CC0D8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1D7BE4-4E2F-4E17-8067-5D809D18F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3C666B-8767-4F47-8A02-53B553B8C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8D6333-6ADC-4064-A8F2-824A85E5D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B568D4BB-19EE-4795-8064-A75E7EAFC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8A40FB-A927-4A50-A165-894298021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93316C-36A7-4013-BD8A-AE283218E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13909C-2901-4ED5-B666-2E6B7A693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7FDAF7-2E2C-46D9-96D0-6CF5E8150EB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F8C396-4F56-4524-B3DB-188BC3C5E1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CB58ADF-555F-4EE4-8D7F-9DCF6236A3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CE65E5-EBFD-44A7-A25E-E1ACFAC47E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64E65CC-ADCE-45D2-BFE3-681F09D389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9871A9-87EC-4F7C-816D-CD015A54D2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A2696B-1939-4BD8-97D7-1D7E848182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4E1008C1-213A-453C-A47C-6DF1AF62F3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5F54BC-EB66-4816-960C-C56051DC73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F19D99-D055-4348-BE7E-A20A3EDD49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816645-9E26-41B8-B463-BD58CEC807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105C5B-F402-4CE8-ACD5-250E7E5D07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D91F44-333C-4068-81BF-2AE43DA984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112B83F-FBA5-4BAE-BFA1-CEB65236B80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5D5FD8D-A828-4BFA-9A32-EFFB3AF87C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FCDC142-7735-4DA5-9E6D-E1939E77D50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E82FBCE-DBD7-4D8A-930F-6BA4EF9715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626C5B-A80E-4E60-8501-D313E34423E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3B9C11A5-E69A-4E34-B468-293B226086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253283-7509-4727-A440-ED1D1EF9B08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736EF5-C25D-4133-96B1-46EC604D2A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AAD485B-07CC-451D-80A3-13115306A25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56BD45-201D-4EE1-8E1A-0361147AED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77B1AF-6D12-4860-9334-26C6E916440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D34BCA-9F08-43C6-978B-B040F080C1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139BB1-983B-4AA4-90D0-34B364FA98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73BB96-4930-419A-A4B5-3063B625BC4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FEA6955-D180-4268-B6BE-861FA0E98E9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C409954-26D5-49F9-B8B6-194D715199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267FF39B-180A-4EF0-BA5C-6D852F965AE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6AA168-04EB-4263-A134-55CB5D3FFD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A34362-9E97-4B82-895D-800D1F2571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3562A60-7F22-4CA6-9079-5CC9CCF100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A0CAD2-71C2-4B91-A57A-809D7DD610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688EF53-BB25-4051-8554-DBE547A986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7C94E9-F714-46D4-8016-68FB278D15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BB03CA-9160-488F-8EEB-29CA10E968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213BCA-8EB1-4080-936E-BA8F216407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043CEA-918B-4F76-A2AD-79B5316BD5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C015BBD-9111-4282-9E47-BF5B2797C4C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097DCD0F-4DC5-494D-AB5A-FDBD51C411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6FC53B9-AA0E-4E04-A66B-5B667AC244E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729C81E-CC7C-4958-99C6-4AFCA57160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35D3EF-E7DF-4777-93E5-89497A16356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A27FB82-2740-416B-A36C-09D67138A1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17E7EDB-D6E4-4CB3-BE5F-8BD4753C3DC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18F8B47-644C-4AB1-997A-313A45A62D6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277140B-C05B-4962-A9BD-78F09115C7C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9D2A20F-8C0E-4F9B-B8BF-3FF7B630BCC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9AC262-285A-4D56-ABFD-58D5FE9130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9C3F1A-7B0D-4CBE-B6D4-3250A426F4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E03C1C96-6973-4172-9E12-D319B84807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06E592F-36D7-461B-9C8D-8DA54E9C97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4F5840-1F2B-4F2C-9E7A-27F94FC2A91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786501-6859-427A-80E2-8D9C90E25C3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AEBB436-CD00-4478-A432-5162B7AA25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E14AFA-9885-4A56-BF92-882C429424E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3E8114-BD59-4191-BDBD-5B09990EFE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43CBF92-B0FD-4056-8E98-3BE8D9043D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B8B481-AF72-4B42-B1AA-ED2B52F3164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069030-0473-46E7-8C5F-7FA3D45EB5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9CCD31-C936-493D-BD0B-D14943247F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CBC9D6B3-7AA5-4FE9-951A-D89FCC1835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95CEE2-5E01-4175-8381-C6B1EA53C7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9DB5161-77CB-4A92-B8B8-617071F6BC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722C1C-4201-4066-966D-149DD21D0C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52A1FFE-5715-4B39-B594-98164DA5EB5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0EEB7E-113A-4093-B71F-8429F0493F8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122D8B3-34F1-4281-8BF3-973700B80A0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AB708F-C583-4F58-A1B7-37F40448EC2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B81D29-6F1D-449B-891B-2187D0D7ED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D0AB3E-7D7E-4CD7-B38D-497C87A4DB2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D7F7904-0F19-48D0-B0B2-BB6D213AF8D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8418A888-FE0C-4C35-B7D6-8E8519C8378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909139-62A3-4D0F-8BAF-FDC43F7DB71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109874-8817-4857-B5F6-99B48C0B76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F4EA6E-EFA9-4B0C-AD40-ACBF9402A57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30BC5D-1BC4-47FF-BDE0-D5D59D1E5C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3D3A3E6-A8FA-4EA5-9FF4-0E3DE3B68F2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0613E87-92BC-42CD-9500-10259FD4C8E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4F8C1B3-EE90-4A47-914C-C83B457B00D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01C8FF0-E1F6-4410-BCC2-6B4211881D5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466C541-B06A-4B3B-ACC9-882CCFB0227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30A0487-0462-462D-A2BC-1AD3F275B01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1DF5-4EF4-41A4-A7EF-262DC4B230A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4296-C5EE-43C5-9C94-95B07D13A2E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0A5A-AB0C-444E-873E-F18A174F516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E9C7-033C-4F24-8E54-1F8AC0616F4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B3BC-4772-4BD4-9F44-D147088C1DD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4A40-3561-469F-808C-6F29398B5C12}" type="datetime">
              <a:rPr b="0" lang="en-US" sz="2400" spc="-1" strike="noStrike">
                <a:solidFill>
                  <a:srgbClr val="878787"/>
                </a:solidFill>
                <a:latin typeface="Times New Roman"/>
              </a:rPr>
              <a:t>07/30/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A552-E5D4-49B9-9898-28F71149C7D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9E7E-F882-4DF1-97F5-1587702B15E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7E7B-66FC-4B4C-8FC9-2E92065B723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E71C-E842-4E2B-8EA4-3EF2B6B60D4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51C5-BE98-4D13-A5E8-8F9566813A0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324E-0E0D-4E58-B840-5F5E3BBB67D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4A0D-C8F4-41F5-A456-16DC0821E5FD}"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AC0B-5A8A-4540-8FC1-F46B3F47603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4182-C15A-4879-B8F7-282E6CF2B3B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2CA2-FF02-4400-AC72-6B55CA0081B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4BD8-80CA-4125-814D-FDB56F47634C}"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9B7E-C48F-47F2-B74A-E63976110F7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253B-323E-43D5-9C65-1F81BAC5822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23FF-D3D4-4E33-AA0A-E22354E9A51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B9D7-EE45-4DD1-A024-C4D088D0CD1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4528-2496-456A-8800-EA0C4F7EED0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4CDF-58C3-4736-A936-957958BECB3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7913-9200-4892-847C-3229400BF892}"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36DB-AC02-423D-8A6C-11EFD2881D7C}"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472C-9012-4A93-8CB0-FA24873BA883}"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4B62-CC57-491C-8735-46BF325D140A}"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3DF7-E633-450B-94BA-A99F6C6C4DD9}"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630F-4AF6-4030-9E4C-B006C9B146D8}"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